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3DCCA0-2C84-4488-B3E6-F99BA1B4EFA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B7477F-DA68-42D0-B448-98976C117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3F8EB7-6ADD-4E65-A337-866C77D20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2F495E-F778-4735-9418-CC284DED9EC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363B34-9C1B-487A-9F7B-12790100E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C9D9F8-B50A-4C4C-B97E-900FB00C7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FE641E-C3DB-4E19-A0F9-3EC3DDABF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0F90D6-A2C8-4A16-B12C-1028DB169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CE4C02-AC80-4B6A-85B1-A25C6EB0C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94E813-4C6C-4F94-85D9-2A7001874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F48842-4AD3-4B3A-9D24-E6BABCA12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A21197-F3AC-4195-8FCC-8CDF41E66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19FD0-E741-4F2D-9AC4-CDA017E8B75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35280" y="2276640"/>
            <a:ext cx="6121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三十四章 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颈椎病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椎动脉型颈椎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眩晕：是主要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头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视觉障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猝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交感神经型颈椎病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主要由于颈交感神经受周围病变组织刺激所引起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多表现为交感神经兴奋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少数患者表现为交感神经抑制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正侧位、左右斜位和前屈后伸位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片检查对诊断有重要参考价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RI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损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发育性颈椎管狭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枕颌带牵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戴颈托或围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推拿、按摩和理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药物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1" name="Picture 2" descr="图33-3 围领"/>
          <p:cNvPicPr/>
          <p:nvPr/>
        </p:nvPicPr>
        <p:blipFill>
          <a:blip r:embed="rId1"/>
          <a:stretch/>
        </p:blipFill>
        <p:spPr>
          <a:xfrm>
            <a:off x="1873080" y="1627200"/>
            <a:ext cx="5356440" cy="3962520"/>
          </a:xfrm>
          <a:prstGeom prst="rect">
            <a:avLst/>
          </a:prstGeom>
          <a:ln w="0">
            <a:noFill/>
          </a:ln>
        </p:spPr>
      </p:pic>
      <p:sp>
        <p:nvSpPr>
          <p:cNvPr id="152" name="矩形 4"/>
          <p:cNvSpPr/>
          <p:nvPr/>
        </p:nvSpPr>
        <p:spPr>
          <a:xfrm>
            <a:off x="3934080" y="565164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围领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经非手术治疗无效的神经根型、椎动脉型和交感型颈椎病患者，或脊髓型颈椎病症状进行性加重者，可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根据手术入路不同可分前路手术、前外侧手术和后路手术三种，以前路和后路手术多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4-1 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颈椎病，并拟行颈椎前路手术治疗。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①该患者术后可能出现最危急的并发症是什么？②术后主要的护理措施有哪些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 与颈部肌肉痉挛，脊髓神经根受压迫或刺激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受伤的危险 与步态不稳、椎动脉供血不足引起的眩晕或猝倒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进食、沐浴、如厕）自理缺陷 与颈肩部活动受限、握力减弱或精细动作失调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脊髓损伤、呼吸困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缓解疼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选择和佩戴围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外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鼓励自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训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举颈椎病的病因和主要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描述颈椎病患者的临床表现和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颈椎病患者出现颈肩痛的原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比较不同类型颈椎病的特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颈椎病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护颈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密切观察患者生命体征，四肢感觉、反射和运动功能，引流管有无脱出，是否通畅，引流液的颜色、性质和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拆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持颈部平直，避免长时间低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平日主动加大头颈部活动范围，避免颈部固定在一种姿势时间过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睡眠时枕头宜中间低两侧高，头颈部压下后应与一侧肩宽相平，长度超过肩宽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6 c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卧床时不让头部过伸或过屈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项背肌锻炼可加强颈肩部肌肉力量，避免由于颈椎不稳造成颈椎间盘退行性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颈椎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 颈椎间盘退行性变是最基本原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颈椎病有神经根型、脊髓型、椎动脉型、交感神经型颈椎病四种类型，神经根型最为多见，以颈肩痛和颈部僵直表现突出，颈肩、上肢皮肤可有麻木、过敏等感觉异常，上肢牵拉试验和压头试验均为阳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 非手术治疗包括牵引、戴颈托或围领、推拿按摩和理疗、药物治疗等，手术有前路手术、前外侧手术和后路手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颈椎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74304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 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重点是提供心理支持、缓解疼痛、佩戴围领、预防外伤、鼓励自理等措施，根据手术入路做好术前训练。术后应保护颈部，做好病情观察护理，指导功能锻炼。另外，对于健康人和颈椎病患者均应进行相关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颈椎病是颈椎间盘退行性变及其继发关节、韧带的变性、增生、钙化造成颈段脊柱不稳定，最后刺激或压迫脊髓、神经根、椎动脉和交感神经，出现相应的临床表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多见于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以上的人群，男性多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好发部位依次为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en-US" sz="3200" spc="-1" strike="noStrike" baseline="-25000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3200" spc="-1" strike="noStrike" baseline="-25000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 baseline="-25000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en-US" sz="3200" spc="-1" strike="noStrike" baseline="-25000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200" spc="-1" strike="noStrike" baseline="-25000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 baseline="-25000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en-US" sz="3200" spc="-1" strike="noStrike" baseline="-25000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3200" spc="-1" strike="noStrike" baseline="-25000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 baseline="-25000">
                <a:solidFill>
                  <a:srgbClr val="046ca6"/>
                </a:solidFill>
                <a:latin typeface="华文新魏"/>
              </a:rPr>
              <a:t>7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4-1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女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颈肩痛伴左手麻木半年，疼痛向左上肢放射，近一年用左手持物时经常出现持物不稳，物品掉落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检：颈部活动受限，左手及前臂感觉减退，上肢牵拉试验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+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、压头试验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+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：颈椎曲度变直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RI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 baseline="-25000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椎间盘向椎管内突出，压迫左侧神经根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神经根型颈椎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发病率最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多先有颈肩痛和颈部僵直，短期内疼痛加重并向上肢放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以单侧为多，与头部或上肢姿势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神经根型颈椎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可有上肢肌力下降、握力减弱、手指动作不灵活等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上肢牵拉试验（又称臂丛神经牵拉试验）阳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压头试验阳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22" name="组合 6"/>
          <p:cNvGrpSpPr/>
          <p:nvPr/>
        </p:nvGrpSpPr>
        <p:grpSpPr>
          <a:xfrm>
            <a:off x="684360" y="1484280"/>
            <a:ext cx="3755880" cy="4464720"/>
            <a:chOff x="684360" y="1484280"/>
            <a:chExt cx="3755880" cy="4464720"/>
          </a:xfrm>
        </p:grpSpPr>
        <p:pic>
          <p:nvPicPr>
            <p:cNvPr id="123" name="Picture 2" descr=""/>
            <p:cNvPicPr/>
            <p:nvPr/>
          </p:nvPicPr>
          <p:blipFill>
            <a:blip r:embed="rId1"/>
            <a:stretch/>
          </p:blipFill>
          <p:spPr>
            <a:xfrm>
              <a:off x="684360" y="1484280"/>
              <a:ext cx="3755880" cy="388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矩形 4"/>
            <p:cNvSpPr/>
            <p:nvPr/>
          </p:nvSpPr>
          <p:spPr>
            <a:xfrm>
              <a:off x="1665360" y="5580720"/>
              <a:ext cx="100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46ca6"/>
                  </a:solidFill>
                  <a:latin typeface="Arial"/>
                </a:rPr>
                <a:t>上肢牵拉试验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25" name="组合 7"/>
          <p:cNvGrpSpPr/>
          <p:nvPr/>
        </p:nvGrpSpPr>
        <p:grpSpPr>
          <a:xfrm>
            <a:off x="5148360" y="1366920"/>
            <a:ext cx="3168720" cy="4590360"/>
            <a:chOff x="5148360" y="1366920"/>
            <a:chExt cx="3168720" cy="4590360"/>
          </a:xfrm>
        </p:grpSpPr>
        <p:pic>
          <p:nvPicPr>
            <p:cNvPr id="126" name="Picture 3" descr=""/>
            <p:cNvPicPr/>
            <p:nvPr/>
          </p:nvPicPr>
          <p:blipFill>
            <a:blip r:embed="rId2"/>
            <a:stretch/>
          </p:blipFill>
          <p:spPr>
            <a:xfrm>
              <a:off x="5148360" y="1366920"/>
              <a:ext cx="3168720" cy="422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矩形 5"/>
            <p:cNvSpPr/>
            <p:nvPr/>
          </p:nvSpPr>
          <p:spPr>
            <a:xfrm>
              <a:off x="5693760" y="558900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46ca6"/>
                  </a:solidFill>
                  <a:latin typeface="Arial"/>
                </a:rPr>
                <a:t>压头试验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04920" y="105264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脊髓型颈椎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主要由于各种病变压迫或刺激脊髓引起发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以侧束、锥体束损害表现突出，患者多先出现一侧或双侧下肢乏力，行走、持物不稳，有踩棉花样感觉，但颈部疼痛不明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04920" y="105264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脊髓型颈椎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逐渐加重，病变累及到上肢，出现手部发麻，握力减退，精细活动失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者还可有躯体感觉障碍，躯干有束带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部分患者还有二便困难，性功能减退，病理反射阳性等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11:15:03Z</dcterms:modified>
  <cp:revision>117</cp:revision>
  <dc:subject/>
  <dc:title>内科护理学</dc:title>
</cp:coreProperties>
</file>